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F239E-9271-41ED-8A8E-5176FA109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8476E-C481-4B4E-AB28-871A3DF20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FCDE5-6116-4C44-B081-C782A1004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F5A06-0700-4F00-A3D8-4924B5289A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29F06-E949-49B1-B2F5-4D3D5A8B40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E0B5F-25B4-4035-8DF3-A572D85E3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650C2-DE74-471D-A6E8-C9F2B229A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1C505-33CC-4228-A92D-53110BFB9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59553-0177-4FF5-94C9-55DB8B691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0F75A-1D4C-4A24-A138-199CC171F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F33D6-615A-4005-A9C6-FFE6FFB50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EDE80-E8D3-4819-97CE-C2D5747D2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216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79280" y="6048360"/>
            <a:ext cx="70164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61760" y="6605640"/>
            <a:ext cx="237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u und Mythos -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23360" y="6570720"/>
            <a:ext cx="620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EF5A-AF9E-4F8C-AC21-6F3B070BC6B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5040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79280" y="4032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179280" y="3024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179280" y="2016000"/>
            <a:ext cx="701640" cy="9813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179280" y="100800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179280" y="0"/>
            <a:ext cx="70164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342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rau und Mythos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63280" y="4005360"/>
            <a:ext cx="593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2002 -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A76C1-C667-47FB-9762-66CE4B5F66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eitpla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16720" y="54936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E2418-2EF0-40AA-A806-09F627F727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27079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Bewertungskriteri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64311-DB02-4DBD-AEBD-1DD8C63F58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durch die beteiligten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sfragebogen für die SchülerIn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wer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-Aktivitä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E6FF7-5DCD-4F71-999B-D051FD3CB4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Projekttea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3A A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B 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2 RG Bru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 RG Me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nd mehrere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BB0D-7F31-4A78-AAED-E882E76017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iele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ssen über alte und neue Mythen erwei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eamarbeit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mmunikation und Kooperation online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elbstverantwortetes Lern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reativität und Information verbin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äsentieren und Visualisier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D2140-003F-4726-9544-D2F0E57A81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as ist zu tun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7354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ppen bil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os entwerf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idee entwickel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beitsteilung und Zusammenarbeit mit Partnergruppe planen (For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tageb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 ausarbe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ä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2A62B-4C4C-473C-8186-D847CB7B96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o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lioth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818B9-6608-4D0A-AB33-FF6A24CF24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ie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ie Projektarb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enverantwortlich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steilung mit der Partnergrup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eln einhal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ge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verantwortung fü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ganze Projek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B31B9-0687-4083-8EE5-EA6235FC0C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Gruppenbildung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Gru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4 Mitglie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uppenlei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munik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257DB-32D7-4A28-811F-B153735767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920" y="2781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oru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301CF-A7E7-4869-96C7-A91842B015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Them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32400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g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th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yd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az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em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2089080"/>
            <a:ext cx="324000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eni Riefenst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ra 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arylin Monr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ippi Langstrum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Jeanne d´A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43643-D6A5-467D-9754-F9CD51A132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7:54:37Z</dcterms:created>
  <dc:creator>ah</dc:creator>
  <dc:description/>
  <dc:language>en-US</dc:language>
  <cp:lastModifiedBy>ah</cp:lastModifiedBy>
  <dcterms:modified xsi:type="dcterms:W3CDTF">2003-09-29T14:25:02Z</dcterms:modified>
  <cp:revision>22</cp:revision>
  <dc:subject/>
  <dc:title>Folie 1</dc:title>
</cp:coreProperties>
</file>