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CAC1-BE19-435E-B95D-43EAD179C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FD559-B87A-43F7-B888-F43007A3A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7035B-E9EC-44A2-807D-552F128E8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3CEFF-00B7-4AAE-A831-A93B6EE526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051AD-1DF1-486A-9B12-62168BC1E4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CCDB6-E20B-4F8A-8C8F-599F2ED126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5BD0A-F782-4489-AE9B-EB9F5A46C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8770-82AE-4782-8086-1485954FF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B75DA-008D-4DC6-84B2-451BB031E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960CE-5965-45A6-BAB1-CD8E825B6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C67EA-1C3C-4A0A-AED2-272DB253A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07FDF-49D3-445E-8902-764DEF69F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216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79280" y="6048360"/>
            <a:ext cx="70164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61760" y="6605640"/>
            <a:ext cx="237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u und Mythos -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23360" y="6570720"/>
            <a:ext cx="620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5813-C3DF-448C-96C6-1F1D80F776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5040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79280" y="4032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179280" y="3024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179280" y="2016000"/>
            <a:ext cx="701640" cy="9813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179280" y="100800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179280" y="0"/>
            <a:ext cx="70164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342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rau und Mythos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63280" y="4005360"/>
            <a:ext cx="593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2002 -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7833D-1CAA-4A57-8EE2-4D13E3E9FD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eitpla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54936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B3E55-C2F3-4B9E-A097-788113F430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27079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Bewertungskriteri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C15B8-5847-4E00-A0DF-B5288AA9C6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durch die beteiligten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sfragebogen für die SchülerIn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wer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-Aktivitä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04EE4-AF36-468C-8BEB-FF200C2EEC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Projekttea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3A A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B 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 RG Bru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 RG Me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d mehrere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8D602-FFEE-4EB5-B631-1F29F51653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iele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ssen über alte und neue Mythen erwei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eamarbeit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mmunikation und Kooperation online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elbstverantwortetes Lern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reativität und Information verbin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äsentieren und Visualisier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C944A-6EAF-4729-9360-0274883E5E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as ist zu tun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354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ppen bil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os entwerf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idee entwickel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beitsteilung und Zusammenarbeit mit Partnergruppe planen (For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tageb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 ausarbe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ä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226E0-157E-4C62-92A9-3F0FC99B07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o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lioth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E0A0B-27C9-4B2A-B433-2EA914022C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ie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ie Projektarb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enverantwortlich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teilung mit der Partnergrup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ln einhal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ge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verantwortung fü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ganze Proje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3B83D-92E7-45B9-B2C5-5F3E200317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Gruppenbildung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Gru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4 Mitglie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ppenlei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munik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64B4B-0484-46C9-B7D3-786C33CCA9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oru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BECC0-8D47-43ED-87A7-A875A0C746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Them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32400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th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y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az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em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2089080"/>
            <a:ext cx="324000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eni Riefenst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ra 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arylin Monr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ippi Langstrum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Jeanne d´A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702DF-55AD-47E4-993D-A3FE325FC5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7:54:37Z</dcterms:created>
  <dc:creator>ah</dc:creator>
  <dc:description/>
  <dc:language>en-US</dc:language>
  <cp:lastModifiedBy>ah</cp:lastModifiedBy>
  <dcterms:modified xsi:type="dcterms:W3CDTF">2003-09-29T14:25:02Z</dcterms:modified>
  <cp:revision>22</cp:revision>
  <dc:subject/>
  <dc:title>Folie 1</dc:title>
</cp:coreProperties>
</file>